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6B1D-A06E-4D26-82D1-EEEC6DF72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CDD5-F427-481F-93F1-72167A879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D966-1AC5-4CF1-A79F-ABAD00C64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B9E4-72C9-4DAA-8A47-DF3C38497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8CFD-7210-4BE8-A0DD-E9F60FAB5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17CD-E1E0-44E0-B7FE-C091A9DBA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51C9-6307-4CDE-BD72-ECFDDAC3A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4A86-B39D-43B7-B8BA-6A0DEC52E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B720-6D83-43CB-98D7-B9DCB2851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6156-9EB0-46C5-BE1B-BC7F35CD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7C0B-6B42-40AE-BD41-88719E57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2F2F-D04A-412D-9174-B332AA85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8D352-2B78-4157-8FD8-BE298F7E5561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anyhands.org.au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6"/>
          <p:cNvSpPr/>
          <p:nvPr/>
        </p:nvSpPr>
        <p:spPr>
          <a:xfrm>
            <a:off x="380880" y="260280"/>
            <a:ext cx="8296560" cy="57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atejia baze-isin hodi hatun konfli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ody-based approaches to reducing confl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Dr. Kim Dunphy Director, Many Hands Interna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manyhands.org.a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Dance Movement Therapist  - Terapista Dansa Movemen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Phoenix Institute, Melbourne, Austral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Vice-President, Dance Movement Therapy Association of Austral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no Marita Jacobsson, terapista kreativ, Melbour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571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6"/>
          <p:cNvSpPr/>
          <p:nvPr/>
        </p:nvSpPr>
        <p:spPr>
          <a:xfrm>
            <a:off x="0" y="333360"/>
            <a:ext cx="47163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apia movimentu dansa bele ajuda ita hasae ita nia relasaun sira tamba bele ajuda lori hamutuk isin no hano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a integradu ba malu liu husi ita nia isin sira. Ita nia komunikasaun maioria neé la-verb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ance movement therap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an help us improve our relationship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ecause it helps bring together body and mind. We relate to each other through our bodies, most of our communication is non-verb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"/>
          <p:cNvPicPr/>
          <p:nvPr/>
        </p:nvPicPr>
        <p:blipFill>
          <a:blip r:embed="rId1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photo Lospalos teacher"/>
          <p:cNvPicPr/>
          <p:nvPr/>
        </p:nvPicPr>
        <p:blipFill>
          <a:blip r:embed="rId2"/>
          <a:stretch/>
        </p:blipFill>
        <p:spPr>
          <a:xfrm>
            <a:off x="4675320" y="1268280"/>
            <a:ext cx="40258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6"/>
          <p:cNvSpPr/>
          <p:nvPr/>
        </p:nvSpPr>
        <p:spPr>
          <a:xfrm>
            <a:off x="179280" y="2060640"/>
            <a:ext cx="5113440" cy="29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nsaun isin lolon, uza dada iis, esplora isin lol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ktividade: motivasaun ba isin lolon, dada i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ody tension, use of breath, body sc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ctivities: body scan, breath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"/>
          <p:cNvPicPr/>
          <p:nvPr/>
        </p:nvPicPr>
        <p:blipFill>
          <a:blip r:embed="rId1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395280" y="333360"/>
            <a:ext cx="8424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sae konesement resposta ba ita nia isin lol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creasing awareness of our body’s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6"/>
          <p:cNvSpPr/>
          <p:nvPr/>
        </p:nvSpPr>
        <p:spPr>
          <a:xfrm>
            <a:off x="395280" y="1413000"/>
            <a:ext cx="4983120" cy="36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rvisu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individu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a bele hanoin dalan oinsa ema sente esperiensia divertidu sira nia isin lol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dividual wor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an you think of ways peop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an have enjoyable experien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 their bodies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"/>
          <p:cNvPicPr/>
          <p:nvPr/>
        </p:nvPicPr>
        <p:blipFill>
          <a:blip r:embed="rId1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" descr=""/>
          <p:cNvPicPr/>
          <p:nvPr/>
        </p:nvPicPr>
        <p:blipFill>
          <a:blip r:embed="rId2"/>
          <a:stretch/>
        </p:blipFill>
        <p:spPr>
          <a:xfrm>
            <a:off x="5580000" y="1557360"/>
            <a:ext cx="31687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6"/>
          <p:cNvSpPr/>
          <p:nvPr/>
        </p:nvSpPr>
        <p:spPr>
          <a:xfrm>
            <a:off x="179280" y="1773360"/>
            <a:ext cx="374508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Oinsa bele esperiensia diverte iha isin lolon ba relasaun ho rejolusaun konfliktu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Oinsa ita kria sira barak liu t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600" spc="-1" strike="noStrike">
                <a:solidFill>
                  <a:srgbClr val="000000"/>
                </a:solidFill>
                <a:latin typeface="Arial"/>
              </a:rPr>
              <a:t>How can enjoyable experiences in the body be related to conflict resolutio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600" spc="-1" strike="noStrike">
                <a:solidFill>
                  <a:srgbClr val="000000"/>
                </a:solidFill>
                <a:latin typeface="Arial"/>
              </a:rPr>
              <a:t>How could we create more of them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"/>
          <p:cNvPicPr/>
          <p:nvPr/>
        </p:nvPicPr>
        <p:blipFill>
          <a:blip r:embed="rId1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" descr=""/>
          <p:cNvPicPr/>
          <p:nvPr/>
        </p:nvPicPr>
        <p:blipFill>
          <a:blip r:embed="rId2"/>
          <a:stretch/>
        </p:blipFill>
        <p:spPr>
          <a:xfrm>
            <a:off x="3924360" y="1700280"/>
            <a:ext cx="5041800" cy="3744720"/>
          </a:xfrm>
          <a:prstGeom prst="rect">
            <a:avLst/>
          </a:prstGeom>
          <a:ln w="0">
            <a:noFill/>
          </a:ln>
        </p:spPr>
      </p:pic>
      <p:sp>
        <p:nvSpPr>
          <p:cNvPr id="56" name="TextBox 2"/>
          <p:cNvSpPr/>
          <p:nvPr/>
        </p:nvSpPr>
        <p:spPr>
          <a:xfrm>
            <a:off x="324000" y="404640"/>
            <a:ext cx="84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kusaun grupu no ható fali nia resultado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roup discussion and </a:t>
            </a:r>
            <a:r>
              <a:rPr b="1" i="1" lang="en-AU" sz="2400" spc="-1" strike="noStrike">
                <a:solidFill>
                  <a:srgbClr val="000000"/>
                </a:solidFill>
                <a:latin typeface="Arial"/>
              </a:rPr>
              <a:t>reporting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6"/>
          <p:cNvSpPr/>
          <p:nvPr/>
        </p:nvSpPr>
        <p:spPr>
          <a:xfrm>
            <a:off x="108000" y="476280"/>
            <a:ext cx="5400720" cy="54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a aktivu liu his isin lol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tunement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juda ita bele komprende ma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ktividade: refleksau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periensia rona aktivu li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usi isin lol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ctive listening through the bo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ttunement’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elps us understand each oth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ctivity: mirroring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xperiencing active listening through the bo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"/>
          <p:cNvPicPr/>
          <p:nvPr/>
        </p:nvPicPr>
        <p:blipFill>
          <a:blip r:embed="rId1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" descr=""/>
          <p:cNvPicPr/>
          <p:nvPr/>
        </p:nvPicPr>
        <p:blipFill>
          <a:blip r:embed="rId2"/>
          <a:stretch/>
        </p:blipFill>
        <p:spPr>
          <a:xfrm>
            <a:off x="5364000" y="1557360"/>
            <a:ext cx="34466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6"/>
          <p:cNvSpPr/>
          <p:nvPr/>
        </p:nvSpPr>
        <p:spPr>
          <a:xfrm>
            <a:off x="250920" y="907920"/>
            <a:ext cx="4046400" cy="39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kusau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insa bele rona aktivu liu husi isin lol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tunement’,  kontribui ba hatun no resolve konflikt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iscuss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ow can active listening through the body, ‘attunement’,  contribute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ducing and resolving conflic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"/>
          <p:cNvPicPr/>
          <p:nvPr/>
        </p:nvPicPr>
        <p:blipFill>
          <a:blip r:embed="rId1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4716360" y="1052640"/>
            <a:ext cx="4206960" cy="39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6"/>
          <p:cNvSpPr/>
          <p:nvPr/>
        </p:nvSpPr>
        <p:spPr>
          <a:xfrm>
            <a:off x="395280" y="836640"/>
            <a:ext cx="411948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tadalan aktiv: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atejia hodi hatun tensaun no hasae kapasidade hodi deskan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tividade: matadalan hamam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ctive relax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trategies for reducing tens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nd increasing the capacity to rel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ctivity: guided relax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1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" descr=""/>
          <p:cNvPicPr/>
          <p:nvPr/>
        </p:nvPicPr>
        <p:blipFill>
          <a:blip r:embed="rId2"/>
          <a:stretch/>
        </p:blipFill>
        <p:spPr>
          <a:xfrm>
            <a:off x="4781520" y="981000"/>
            <a:ext cx="41036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6"/>
          <p:cNvSpPr/>
          <p:nvPr/>
        </p:nvSpPr>
        <p:spPr>
          <a:xfrm>
            <a:off x="324000" y="404640"/>
            <a:ext cx="829620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cuss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can active relax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lp to reduce conflic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iskusau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insa deskansa aktivu bele ajuda hodi hatun konflikt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"/>
          <p:cNvPicPr/>
          <p:nvPr/>
        </p:nvPicPr>
        <p:blipFill>
          <a:blip r:embed="rId1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" descr=""/>
          <p:cNvPicPr/>
          <p:nvPr/>
        </p:nvPicPr>
        <p:blipFill>
          <a:blip r:embed="rId2"/>
          <a:stretch/>
        </p:blipFill>
        <p:spPr>
          <a:xfrm>
            <a:off x="2484360" y="3357720"/>
            <a:ext cx="49165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2T01:46:38Z</dcterms:created>
  <dc:creator>kimdun</dc:creator>
  <dc:description/>
  <dc:language>en-US</dc:language>
  <cp:lastModifiedBy>Kim Dunphy</cp:lastModifiedBy>
  <dcterms:modified xsi:type="dcterms:W3CDTF">2014-12-09T12:34:10Z</dcterms:modified>
  <cp:revision>359</cp:revision>
  <dc:subject/>
  <dc:title>Community cultural development  The how, when,  where and wh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